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46.jpeg" ContentType="image/jpeg"/>
  <Override PartName="/ppt/media/image2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6E950-71D4-445C-B1A2-880FD02C2C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B3893-C198-4D38-82A2-5038A386E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sent one time through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art . Present again and asking more comprehension questions.  Have students repeat. Split up the parts Then have students figure out what words and phrases m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725-0498-468F-AFED-84BED488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90E-476F-4FBF-9F87-E350C85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FCA-3D77-4927-9E3C-4ACF2461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C40-A4CB-40DD-92B3-755BE187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2B4-C00B-4CBF-8D4E-F8EDF2EA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09A-78C1-444E-8ABE-1F88CC2E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8E3-8A78-444E-AA39-F2F1E98A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99D-D9A8-4CC5-A195-AF3DE688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57B-D1EC-4A47-8C17-4E547C86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043-426B-417E-96D7-1828C24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0D9-887E-4196-B9CA-68FEAF9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8C6-A436-4F92-B48B-C8EB7F7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433E4-8FF1-452C-974F-EB8951518A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A5E34-584D-4C01-8625-87E5D3543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quizlet.com/6457597/spanish-speaking-countries-and-capitals-along-with-their-map-flash-cards/" TargetMode="External"/><Relationship Id="rId2" Type="http://schemas.openxmlformats.org/officeDocument/2006/relationships/hyperlink" Target="http://www.purposegames.com/game/spanish-speaking-countries-quiz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amoustourisms.com/2011/05/some-pictures-about-the-beach-in-barcelona-spain/picture_091_mid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2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 Empezar (Starte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quizlet.com/6457597/spanish-speaking-countries-and-capitals-along-with-their-map-flash-card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urposegames.com/game/spanish-speaking-countries-qui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arcel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ity6"/>
          <p:cNvPicPr/>
          <p:nvPr/>
        </p:nvPicPr>
        <p:blipFill>
          <a:blip r:embed="rId1"/>
          <a:stretch/>
        </p:blipFill>
        <p:spPr>
          <a:xfrm>
            <a:off x="4343400" y="1695600"/>
            <a:ext cx="5048280" cy="3790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rcelona1"/>
          <p:cNvPicPr/>
          <p:nvPr/>
        </p:nvPicPr>
        <p:blipFill>
          <a:blip r:embed="rId2"/>
          <a:stretch/>
        </p:blipFill>
        <p:spPr>
          <a:xfrm>
            <a:off x="0" y="11430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Sagrada Familia (Catedral en Barcelon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barcelona-cruises-2"/>
          <p:cNvPicPr/>
          <p:nvPr/>
        </p:nvPicPr>
        <p:blipFill>
          <a:blip r:embed="rId1"/>
          <a:stretch/>
        </p:blipFill>
        <p:spPr>
          <a:xfrm>
            <a:off x="1371600" y="1517760"/>
            <a:ext cx="66294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playa en Barcel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nerja beach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393920"/>
            <a:ext cx="67672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Barcelona_Beach"/>
          <p:cNvPicPr/>
          <p:nvPr/>
        </p:nvPicPr>
        <p:blipFill>
          <a:blip r:embed="rId1"/>
          <a:stretch/>
        </p:blipFill>
        <p:spPr>
          <a:xfrm>
            <a:off x="2743200" y="1417680"/>
            <a:ext cx="40845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ye Luci. ¿Qué lenguas habla tu pad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4648320" y="0"/>
            <a:ext cx="4495680" cy="2514600"/>
          </a:xfrm>
          <a:prstGeom prst="wedgeEllipseCallout">
            <a:avLst>
              <a:gd name="adj1" fmla="val -351"/>
              <a:gd name="adj2" fmla="val 67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i padre habla catalán y españ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box-tm_catalan"/>
          <p:cNvPicPr/>
          <p:nvPr/>
        </p:nvPicPr>
        <p:blipFill>
          <a:blip r:embed="rId3"/>
          <a:stretch/>
        </p:blipFill>
        <p:spPr>
          <a:xfrm>
            <a:off x="3638520" y="2895480"/>
            <a:ext cx="2381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map_001"/>
          <p:cNvPicPr/>
          <p:nvPr/>
        </p:nvPicPr>
        <p:blipFill>
          <a:blip r:embed="rId1"/>
          <a:stretch/>
        </p:blipFill>
        <p:spPr>
          <a:xfrm>
            <a:off x="1752480" y="274680"/>
            <a:ext cx="493092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3632400" cy="456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388960" cy="45626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-2629"/>
              <a:gd name="adj2" fmla="val 67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Qué interestante! ¿y tu mamá también habla cata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4495680" y="0"/>
            <a:ext cx="4648320" cy="2514600"/>
          </a:xfrm>
          <a:prstGeom prst="wedgeEllipseCallout">
            <a:avLst>
              <a:gd name="adj1" fmla="val 10518"/>
              <a:gd name="adj2" fmla="val 61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, mi mamá es de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mexicofan"/>
          <p:cNvPicPr/>
          <p:nvPr/>
        </p:nvPicPr>
        <p:blipFill>
          <a:blip r:embed="rId3"/>
          <a:stretch/>
        </p:blipFill>
        <p:spPr>
          <a:xfrm>
            <a:off x="2505240" y="3124080"/>
            <a:ext cx="42861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Mexico_map"/>
          <p:cNvPicPr/>
          <p:nvPr/>
        </p:nvPicPr>
        <p:blipFill>
          <a:blip r:embed="rId1"/>
          <a:stretch/>
        </p:blipFill>
        <p:spPr>
          <a:xfrm>
            <a:off x="0" y="880920"/>
            <a:ext cx="902016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Spanish-Course-Mexico(1)"/>
          <p:cNvPicPr/>
          <p:nvPr/>
        </p:nvPicPr>
        <p:blipFill>
          <a:blip r:embed="rId1"/>
          <a:stretch/>
        </p:blipFill>
        <p:spPr>
          <a:xfrm>
            <a:off x="0" y="0"/>
            <a:ext cx="454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mexicopicture"/>
          <p:cNvPicPr/>
          <p:nvPr/>
        </p:nvPicPr>
        <p:blipFill>
          <a:blip r:embed="rId2"/>
          <a:stretch/>
        </p:blipFill>
        <p:spPr>
          <a:xfrm>
            <a:off x="0" y="2846520"/>
            <a:ext cx="4900680" cy="367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catedral-mexico-df"/>
          <p:cNvPicPr/>
          <p:nvPr/>
        </p:nvPicPr>
        <p:blipFill>
          <a:blip r:embed="rId3"/>
          <a:stretch/>
        </p:blipFill>
        <p:spPr>
          <a:xfrm>
            <a:off x="4443480" y="-11160"/>
            <a:ext cx="4267080" cy="285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800px-Mexico_Flag_Map_svg"/>
          <p:cNvPicPr/>
          <p:nvPr/>
        </p:nvPicPr>
        <p:blipFill>
          <a:blip r:embed="rId4"/>
          <a:stretch/>
        </p:blipFill>
        <p:spPr>
          <a:xfrm>
            <a:off x="2762280" y="2187720"/>
            <a:ext cx="6381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-3314"/>
              <a:gd name="adj2" fmla="val 70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De ve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Tú mamá es méxic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4648320" y="0"/>
            <a:ext cx="4495680" cy="2514600"/>
          </a:xfrm>
          <a:prstGeom prst="wedgeEllipseCallout">
            <a:avLst>
              <a:gd name="adj1" fmla="val 3884"/>
              <a:gd name="adj2" fmla="val 71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í ella es méxicana. Es de Guadalajara,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mexico_country_map"/>
          <p:cNvPicPr/>
          <p:nvPr/>
        </p:nvPicPr>
        <p:blipFill>
          <a:blip r:embed="rId3"/>
          <a:stretch/>
        </p:blipFill>
        <p:spPr>
          <a:xfrm>
            <a:off x="2505240" y="3276720"/>
            <a:ext cx="42861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76320" y="-360"/>
            <a:ext cx="9220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spaño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y es_____________________________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ubtitle 2" descr="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556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078770"/>
          <p:cNvPicPr/>
          <p:nvPr/>
        </p:nvPicPr>
        <p:blipFill>
          <a:blip r:embed="rId2"/>
          <a:stretch/>
        </p:blipFill>
        <p:spPr>
          <a:xfrm>
            <a:off x="6095880" y="1798560"/>
            <a:ext cx="27021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guadalajara-cathedral"/>
          <p:cNvPicPr/>
          <p:nvPr/>
        </p:nvPicPr>
        <p:blipFill>
          <a:blip r:embed="rId1"/>
          <a:stretch/>
        </p:blipFill>
        <p:spPr>
          <a:xfrm>
            <a:off x="3676680" y="3308400"/>
            <a:ext cx="5467320" cy="354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providencia-country-skyline"/>
          <p:cNvPicPr/>
          <p:nvPr/>
        </p:nvPicPr>
        <p:blipFill>
          <a:blip r:embed="rId2"/>
          <a:stretch/>
        </p:blipFill>
        <p:spPr>
          <a:xfrm>
            <a:off x="0" y="-228600"/>
            <a:ext cx="5238720" cy="3809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guadalajara_pic"/>
          <p:cNvPicPr/>
          <p:nvPr/>
        </p:nvPicPr>
        <p:blipFill>
          <a:blip r:embed="rId3"/>
          <a:stretch/>
        </p:blipFill>
        <p:spPr>
          <a:xfrm>
            <a:off x="5638680" y="1033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GDLCatedral"/>
          <p:cNvPicPr/>
          <p:nvPr/>
        </p:nvPicPr>
        <p:blipFill>
          <a:blip r:embed="rId4"/>
          <a:stretch/>
        </p:blipFill>
        <p:spPr>
          <a:xfrm>
            <a:off x="152280" y="3308400"/>
            <a:ext cx="26575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De Méx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-19328"/>
              <a:gd name="adj2" fmla="val 724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Sí órale! !Es muy guay! ¿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Viva_Mexico_by_mexicanos1"/>
          <p:cNvPicPr/>
          <p:nvPr/>
        </p:nvPicPr>
        <p:blipFill>
          <a:blip r:embed="rId3"/>
          <a:stretch/>
        </p:blipFill>
        <p:spPr>
          <a:xfrm>
            <a:off x="2778120" y="4054320"/>
            <a:ext cx="3433680" cy="256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viva-mexico"/>
          <p:cNvPicPr/>
          <p:nvPr/>
        </p:nvPicPr>
        <p:blipFill>
          <a:blip r:embed="rId4"/>
          <a:stretch/>
        </p:blipFill>
        <p:spPr>
          <a:xfrm>
            <a:off x="3638520" y="251460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ues…sí es muy gu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-19328"/>
              <a:gd name="adj2" fmla="val 724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y tú Chavo? ¿De dónde e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Viva_Mexico_by_mexicanos1"/>
          <p:cNvPicPr/>
          <p:nvPr/>
        </p:nvPicPr>
        <p:blipFill>
          <a:blip r:embed="rId3"/>
          <a:stretch/>
        </p:blipFill>
        <p:spPr>
          <a:xfrm>
            <a:off x="2778120" y="4054320"/>
            <a:ext cx="3433680" cy="2565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viva-mexico"/>
          <p:cNvPicPr/>
          <p:nvPr/>
        </p:nvPicPr>
        <p:blipFill>
          <a:blip r:embed="rId4"/>
          <a:stretch/>
        </p:blipFill>
        <p:spPr>
          <a:xfrm>
            <a:off x="3638520" y="251460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-53352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y de Chile. Soy de la capital, Santi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2870"/>
              <a:gd name="adj2" fmla="val 61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Qué gu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chile"/>
          <p:cNvPicPr/>
          <p:nvPr/>
        </p:nvPicPr>
        <p:blipFill>
          <a:blip r:embed="rId3"/>
          <a:stretch/>
        </p:blipFill>
        <p:spPr>
          <a:xfrm>
            <a:off x="3119400" y="1371600"/>
            <a:ext cx="2752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antiago,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Santiago_Chile_and_Andes_Mountains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plaza en Santia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santiago-chile"/>
          <p:cNvPicPr/>
          <p:nvPr/>
        </p:nvPicPr>
        <p:blipFill>
          <a:blip r:embed="rId1"/>
          <a:stretch/>
        </p:blipFill>
        <p:spPr>
          <a:xfrm>
            <a:off x="1219320" y="141768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6019920" y="2048040"/>
            <a:ext cx="3632040" cy="45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7480" y="2048040"/>
            <a:ext cx="2388960" cy="45622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-3518"/>
              <a:gd name="adj2" fmla="val 70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í me gusta mucho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4027"/>
              <a:gd name="adj2" fmla="val 61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Hablas un lengua indíg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mapuche_win"/>
          <p:cNvPicPr/>
          <p:nvPr/>
        </p:nvPicPr>
        <p:blipFill>
          <a:blip r:embed="rId3"/>
          <a:stretch/>
        </p:blipFill>
        <p:spPr>
          <a:xfrm>
            <a:off x="2476440" y="3276720"/>
            <a:ext cx="4191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380880" y="229536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8"/>
          <p:cNvSpPr/>
          <p:nvPr/>
        </p:nvSpPr>
        <p:spPr>
          <a:xfrm>
            <a:off x="0" y="0"/>
            <a:ext cx="4648320" cy="2666880"/>
          </a:xfrm>
          <a:prstGeom prst="wedgeEllipseCallout">
            <a:avLst>
              <a:gd name="adj1" fmla="val 3847"/>
              <a:gd name="adj2" fmla="val 869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No solo hablo español…y hablo inglés también. ¡Por supuesto! (of cours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4495680" y="0"/>
            <a:ext cx="4648320" cy="2666880"/>
          </a:xfrm>
          <a:prstGeom prst="wedgeEllipseCallout">
            <a:avLst>
              <a:gd name="adj1" fmla="val 7657"/>
              <a:gd name="adj2" fmla="val 63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Pues claro (of course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espanol"/>
          <p:cNvPicPr/>
          <p:nvPr/>
        </p:nvPicPr>
        <p:blipFill>
          <a:blip r:embed="rId3"/>
          <a:stretch/>
        </p:blipFill>
        <p:spPr>
          <a:xfrm>
            <a:off x="3425760" y="2971800"/>
            <a:ext cx="2289240" cy="13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learn-english1"/>
          <p:cNvPicPr/>
          <p:nvPr/>
        </p:nvPicPr>
        <p:blipFill>
          <a:blip r:embed="rId4"/>
          <a:stretch/>
        </p:blipFill>
        <p:spPr>
          <a:xfrm>
            <a:off x="3624120" y="4549680"/>
            <a:ext cx="20908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5181480" y="2500200"/>
            <a:ext cx="3632400" cy="4562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388960" cy="45626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2287"/>
              <a:gd name="adj2" fmla="val 854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Qué lenguas hablas tú Lu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4648320" y="0"/>
            <a:ext cx="4495680" cy="2895480"/>
          </a:xfrm>
          <a:prstGeom prst="wedgeEllipseCallout">
            <a:avLst>
              <a:gd name="adj1" fmla="val -1763"/>
              <a:gd name="adj2" fmla="val 61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ues…hablo inglés y español. También hablo francés y cata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box-tm_catalan"/>
          <p:cNvPicPr/>
          <p:nvPr/>
        </p:nvPicPr>
        <p:blipFill>
          <a:blip r:embed="rId3"/>
          <a:stretch/>
        </p:blipFill>
        <p:spPr>
          <a:xfrm>
            <a:off x="3327480" y="4362480"/>
            <a:ext cx="1854000" cy="240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parle_francais_rouge_4-1a4a1"/>
          <p:cNvPicPr/>
          <p:nvPr/>
        </p:nvPicPr>
        <p:blipFill>
          <a:blip r:embed="rId4"/>
          <a:stretch/>
        </p:blipFill>
        <p:spPr>
          <a:xfrm>
            <a:off x="3228840" y="2500200"/>
            <a:ext cx="1952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555"/>
              <a:gd name="adj2" fmla="val 88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Hablas francés también? ¡Geni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114800" y="0"/>
            <a:ext cx="5029200" cy="2895480"/>
          </a:xfrm>
          <a:prstGeom prst="wedgeEllipseCallout">
            <a:avLst>
              <a:gd name="adj1" fmla="val -8490"/>
              <a:gd name="adj2" fmla="val 54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y pues…gracias Cha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parle_francais_rouge_4-1a4a1"/>
          <p:cNvPicPr/>
          <p:nvPr/>
        </p:nvPicPr>
        <p:blipFill>
          <a:blip r:embed="rId3"/>
          <a:stretch/>
        </p:blipFill>
        <p:spPr>
          <a:xfrm>
            <a:off x="3303720" y="3352680"/>
            <a:ext cx="1952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Calibri"/>
              </a:rPr>
              <a:t>¿De dónde eres tú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561960" y="2716200"/>
            <a:ext cx="3046320" cy="382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4648320" y="2716200"/>
            <a:ext cx="1958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/>
          <p:cNvSpPr/>
          <p:nvPr/>
        </p:nvSpPr>
        <p:spPr>
          <a:xfrm>
            <a:off x="1752480" y="0"/>
            <a:ext cx="2895840" cy="2514600"/>
          </a:xfrm>
          <a:prstGeom prst="wedgeEllipseCallout">
            <a:avLst>
              <a:gd name="adj1" fmla="val -2083"/>
              <a:gd name="adj2" fmla="val 88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ues, hasta mañana Lu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5029200" y="0"/>
            <a:ext cx="3632040" cy="2514600"/>
          </a:xfrm>
          <a:prstGeom prst="wedgeEllipseCallout">
            <a:avLst>
              <a:gd name="adj1" fmla="val -23032"/>
              <a:gd name="adj2" fmla="val 79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¡Sí! ¡Hasta luego Chav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80880" y="304920"/>
            <a:ext cx="1143000" cy="1371600"/>
          </a:xfrm>
          <a:prstGeom prst="borderCallout2">
            <a:avLst>
              <a:gd name="adj1" fmla="val 18750"/>
              <a:gd name="adj2" fmla="val -8333"/>
              <a:gd name="adj3" fmla="val 8333"/>
              <a:gd name="adj4" fmla="val -12777"/>
              <a:gd name="adj5" fmla="val 97685"/>
              <a:gd name="adj6" fmla="val -343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n rin 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swer about Luci…go back and look at the dialog if you forgo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De dónde es Luci?  Ella es de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lenguas habla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la habla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De dónde es el padre de Luci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la es de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De dónde es la madre de Luci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la es de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lenguas habla el papá de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Él  habla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lenguas habla la mamá de Lu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la habla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eak it down…The verb habla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s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pronoun I"/>
          <p:cNvPicPr/>
          <p:nvPr/>
        </p:nvPicPr>
        <p:blipFill>
          <a:blip r:embed="rId1"/>
          <a:stretch/>
        </p:blipFill>
        <p:spPr>
          <a:xfrm>
            <a:off x="1371600" y="2133720"/>
            <a:ext cx="826920" cy="121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pronoun you"/>
          <p:cNvPicPr/>
          <p:nvPr/>
        </p:nvPicPr>
        <p:blipFill>
          <a:blip r:embed="rId2"/>
          <a:stretch/>
        </p:blipFill>
        <p:spPr>
          <a:xfrm>
            <a:off x="1371600" y="3595680"/>
            <a:ext cx="1195560" cy="123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pronoun you"/>
          <p:cNvPicPr/>
          <p:nvPr/>
        </p:nvPicPr>
        <p:blipFill>
          <a:blip r:embed="rId3"/>
          <a:stretch/>
        </p:blipFill>
        <p:spPr>
          <a:xfrm>
            <a:off x="1271520" y="4829040"/>
            <a:ext cx="927000" cy="957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e pronoun"/>
          <p:cNvPicPr/>
          <p:nvPr/>
        </p:nvPicPr>
        <p:blipFill>
          <a:blip r:embed="rId4"/>
          <a:stretch/>
        </p:blipFill>
        <p:spPr>
          <a:xfrm>
            <a:off x="969840" y="5592600"/>
            <a:ext cx="1011240" cy="68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he pronoun"/>
          <p:cNvPicPr/>
          <p:nvPr/>
        </p:nvPicPr>
        <p:blipFill>
          <a:blip r:embed="rId5"/>
          <a:stretch/>
        </p:blipFill>
        <p:spPr>
          <a:xfrm>
            <a:off x="969840" y="6221520"/>
            <a:ext cx="10112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swer about Chav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¿De dónde es Chavo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Él es de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¿Qué lenguas habla Cha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ÉL habla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mparejar (Match Spanish Phrases to English Phrases-Write the correct let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27920" indent="-72792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De dónde eres (tú)?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Yo) Soy de…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Qué lenguas hablas (tú)?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Yo) Hablo…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speak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am fro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at languages do you sp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rom where are you? (Where are you from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sta (Answe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De dónde eres t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 Soy de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Cuál es tu nacionalidad?  Yo soy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Qué lenguas hablas tú?  Yo hablo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tividad de Hablar ¡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ESPAÑOL!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Speaking Activity IN SPANISH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rst , fill in the information for yourself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w find out about the people on your tabl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k each person on the table where he/she is from and what languages he/she speaks. Record their answers be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nouns are used to clarify and emphasiz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the correct pronoun in the blank.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te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                 profesor(a)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pronoun I"/>
          <p:cNvPicPr/>
          <p:nvPr/>
        </p:nvPicPr>
        <p:blipFill>
          <a:blip r:embed="rId1"/>
          <a:stretch/>
        </p:blipFill>
        <p:spPr>
          <a:xfrm>
            <a:off x="1652760" y="1417680"/>
            <a:ext cx="828360" cy="1219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pronoun you"/>
          <p:cNvPicPr/>
          <p:nvPr/>
        </p:nvPicPr>
        <p:blipFill>
          <a:blip r:embed="rId2"/>
          <a:stretch/>
        </p:blipFill>
        <p:spPr>
          <a:xfrm>
            <a:off x="1652760" y="2502000"/>
            <a:ext cx="10602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e pronoun"/>
          <p:cNvPicPr/>
          <p:nvPr/>
        </p:nvPicPr>
        <p:blipFill>
          <a:blip r:embed="rId3"/>
          <a:stretch/>
        </p:blipFill>
        <p:spPr>
          <a:xfrm>
            <a:off x="1652760" y="5114880"/>
            <a:ext cx="1228680" cy="82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he pronoun"/>
          <p:cNvPicPr/>
          <p:nvPr/>
        </p:nvPicPr>
        <p:blipFill>
          <a:blip r:embed="rId4"/>
          <a:stretch/>
        </p:blipFill>
        <p:spPr>
          <a:xfrm>
            <a:off x="1652760" y="5943600"/>
            <a:ext cx="1180800" cy="7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pronoun you"/>
          <p:cNvPicPr/>
          <p:nvPr/>
        </p:nvPicPr>
        <p:blipFill>
          <a:blip r:embed="rId5"/>
          <a:stretch/>
        </p:blipFill>
        <p:spPr>
          <a:xfrm>
            <a:off x="1652760" y="3595680"/>
            <a:ext cx="1193760" cy="123336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11"/>
          <p:cNvCxnSpPr/>
          <p:nvPr/>
        </p:nvCxnSpPr>
        <p:spPr>
          <a:xfrm flipH="1">
            <a:off x="2671560" y="3976200"/>
            <a:ext cx="4197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7776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mbre (name):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í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(country) y nacionalidad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nguas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n la escuela (In schoo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1st day of school Charlie.jpg"/>
          <p:cNvPicPr/>
          <p:nvPr/>
        </p:nvPicPr>
        <p:blipFill>
          <a:blip r:embed="rId1"/>
          <a:stretch/>
        </p:blipFill>
        <p:spPr>
          <a:xfrm>
            <a:off x="1676520" y="1440000"/>
            <a:ext cx="5410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nouns are used to clarify and emphasiz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the correct pronoun in the blank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É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-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-                    profesor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pronoun I"/>
          <p:cNvPicPr/>
          <p:nvPr/>
        </p:nvPicPr>
        <p:blipFill>
          <a:blip r:embed="rId1"/>
          <a:stretch/>
        </p:blipFill>
        <p:spPr>
          <a:xfrm>
            <a:off x="1947960" y="1417680"/>
            <a:ext cx="8287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pronoun you"/>
          <p:cNvPicPr/>
          <p:nvPr/>
        </p:nvPicPr>
        <p:blipFill>
          <a:blip r:embed="rId2"/>
          <a:stretch/>
        </p:blipFill>
        <p:spPr>
          <a:xfrm>
            <a:off x="2128680" y="2502000"/>
            <a:ext cx="1060560" cy="1093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e pronoun"/>
          <p:cNvPicPr/>
          <p:nvPr/>
        </p:nvPicPr>
        <p:blipFill>
          <a:blip r:embed="rId3"/>
          <a:stretch/>
        </p:blipFill>
        <p:spPr>
          <a:xfrm>
            <a:off x="2193840" y="4829040"/>
            <a:ext cx="1228680" cy="828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she pronoun"/>
          <p:cNvPicPr/>
          <p:nvPr/>
        </p:nvPicPr>
        <p:blipFill>
          <a:blip r:embed="rId4"/>
          <a:stretch/>
        </p:blipFill>
        <p:spPr>
          <a:xfrm>
            <a:off x="2370240" y="5943600"/>
            <a:ext cx="1181160" cy="743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pronoun you"/>
          <p:cNvPicPr/>
          <p:nvPr/>
        </p:nvPicPr>
        <p:blipFill>
          <a:blip r:embed="rId5"/>
          <a:stretch/>
        </p:blipFill>
        <p:spPr>
          <a:xfrm>
            <a:off x="2128680" y="3595680"/>
            <a:ext cx="1195560" cy="1233360"/>
          </a:xfrm>
          <a:prstGeom prst="rect">
            <a:avLst/>
          </a:prstGeom>
          <a:ln w="0">
            <a:noFill/>
          </a:ln>
        </p:spPr>
      </p:pic>
      <p:cxnSp>
        <p:nvCxnSpPr>
          <p:cNvPr id="211" name="Straight Arrow Connector 11"/>
          <p:cNvCxnSpPr/>
          <p:nvPr/>
        </p:nvCxnSpPr>
        <p:spPr>
          <a:xfrm flipH="1">
            <a:off x="3332880" y="3976200"/>
            <a:ext cx="4201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5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ms of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l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ch the Question in English to the Span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gl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2174400"/>
            <a:ext cx="46450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What languages do you speak? (friendly)_______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letter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hat languages do you spea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rmal)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What languages does he speak?-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language does she spea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2174400"/>
            <a:ext cx="4498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Qué lenguas hab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usted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Qué lenguas hab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tú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Qué lenguas hab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él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Qué lenguas hab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ella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bla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 the answer in English to the Span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g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é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600" y="2174400"/>
            <a:ext cx="4268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 speak Spanish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ou (informal/friendly) speak Spanish.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ou (formal) speak Spanish.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e speaks Spanish.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he speaks Spanish.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Tú) hablas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Ella) habla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sted) habla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Él) habla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o) hablo españ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verb does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really follow the pattern we learned-it is an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Irregular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Write what each verb mean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y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s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pronouns for emphasis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the correct pronoun in the blank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ú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ted/Ud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É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240" y="141768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y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er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s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es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pronoun I"/>
          <p:cNvPicPr/>
          <p:nvPr/>
        </p:nvPicPr>
        <p:blipFill>
          <a:blip r:embed="rId1"/>
          <a:stretch/>
        </p:blipFill>
        <p:spPr>
          <a:xfrm>
            <a:off x="1751040" y="1295280"/>
            <a:ext cx="82872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pronoun you"/>
          <p:cNvPicPr/>
          <p:nvPr/>
        </p:nvPicPr>
        <p:blipFill>
          <a:blip r:embed="rId2"/>
          <a:stretch/>
        </p:blipFill>
        <p:spPr>
          <a:xfrm>
            <a:off x="1611360" y="2514600"/>
            <a:ext cx="1197000" cy="12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e pronoun"/>
          <p:cNvPicPr/>
          <p:nvPr/>
        </p:nvPicPr>
        <p:blipFill>
          <a:blip r:embed="rId3"/>
          <a:stretch/>
        </p:blipFill>
        <p:spPr>
          <a:xfrm>
            <a:off x="1579680" y="5114880"/>
            <a:ext cx="1228680" cy="82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she pronoun"/>
          <p:cNvPicPr/>
          <p:nvPr/>
        </p:nvPicPr>
        <p:blipFill>
          <a:blip r:embed="rId4"/>
          <a:stretch/>
        </p:blipFill>
        <p:spPr>
          <a:xfrm>
            <a:off x="1627200" y="6114960"/>
            <a:ext cx="1181160" cy="743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pronoun you"/>
          <p:cNvPicPr/>
          <p:nvPr/>
        </p:nvPicPr>
        <p:blipFill>
          <a:blip r:embed="rId5"/>
          <a:stretch/>
        </p:blipFill>
        <p:spPr>
          <a:xfrm>
            <a:off x="1579680" y="3747960"/>
            <a:ext cx="119700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ms of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tch the Question in English to the Spanis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gl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2174400"/>
            <a:ext cx="46450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are you (friendly) fro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letter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here are you  (formal) fro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Where is he from?-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Where is she from?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4720" y="2174400"/>
            <a:ext cx="4498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De dónde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sted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De dón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tú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De dón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él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De dón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ella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 the answer in English to the Span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gl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é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 am from….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ou (informal/friendly) are from….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ou (formal) are from…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e is from…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he is from…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Él) es 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Tú) eres de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sted) es 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Yo) soy 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Ella) es de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vo entra en la clase de españ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lassroom.gif"/>
          <p:cNvPicPr/>
          <p:nvPr/>
        </p:nvPicPr>
        <p:blipFill>
          <a:blip r:embed="rId1"/>
          <a:stretch/>
        </p:blipFill>
        <p:spPr>
          <a:xfrm>
            <a:off x="0" y="1347840"/>
            <a:ext cx="8686800" cy="412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2252520" y="2666880"/>
            <a:ext cx="64296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8"/>
          <p:cNvSpPr/>
          <p:nvPr/>
        </p:nvSpPr>
        <p:spPr>
          <a:xfrm>
            <a:off x="0" y="0"/>
            <a:ext cx="4495680" cy="2209680"/>
          </a:xfrm>
          <a:prstGeom prst="wedgeEllipseCallout">
            <a:avLst>
              <a:gd name="adj1" fmla="val 13777"/>
              <a:gd name="adj2" fmla="val 68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Hola Srta. Tor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Buenos dí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Good Morning (210).jpg"/>
          <p:cNvPicPr/>
          <p:nvPr/>
        </p:nvPicPr>
        <p:blipFill>
          <a:blip r:embed="rId1"/>
          <a:stretch/>
        </p:blipFill>
        <p:spPr>
          <a:xfrm>
            <a:off x="4724280" y="0"/>
            <a:ext cx="3810240" cy="223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755880" y="2862360"/>
            <a:ext cx="2416320" cy="399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2019240" y="2949480"/>
            <a:ext cx="2362320" cy="390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Kiss.jpg"/>
          <p:cNvPicPr/>
          <p:nvPr/>
        </p:nvPicPr>
        <p:blipFill>
          <a:blip r:embed="rId4"/>
          <a:stretch/>
        </p:blipFill>
        <p:spPr>
          <a:xfrm>
            <a:off x="3686040" y="2490840"/>
            <a:ext cx="13906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289320" y="22096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219320" y="2295360"/>
            <a:ext cx="2388960" cy="4562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ye Luci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¿De dónde eres t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4648320" y="0"/>
            <a:ext cx="4495680" cy="220968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 soy de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y españ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globe5t"/>
          <p:cNvPicPr/>
          <p:nvPr/>
        </p:nvPicPr>
        <p:blipFill>
          <a:blip r:embed="rId3"/>
          <a:stretch/>
        </p:blipFill>
        <p:spPr>
          <a:xfrm>
            <a:off x="112680" y="1447920"/>
            <a:ext cx="1488960" cy="202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pain_flag_map"/>
          <p:cNvPicPr/>
          <p:nvPr/>
        </p:nvPicPr>
        <p:blipFill>
          <a:blip r:embed="rId4"/>
          <a:stretch/>
        </p:blipFill>
        <p:spPr>
          <a:xfrm>
            <a:off x="6110280" y="1447920"/>
            <a:ext cx="30337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632400" cy="4562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238932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17759"/>
              <a:gd name="adj2" fmla="val 713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Geni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De qué parte de España e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4648320" y="0"/>
            <a:ext cx="4495680" cy="2209680"/>
          </a:xfrm>
          <a:prstGeom prst="wedgeEllipseCallout">
            <a:avLst>
              <a:gd name="adj1" fmla="val -19296"/>
              <a:gd name="adj2" fmla="val 6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Yo soy de Barcel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Barcelona_Map_000006401124"/>
          <p:cNvPicPr/>
          <p:nvPr/>
        </p:nvPicPr>
        <p:blipFill>
          <a:blip r:embed="rId3"/>
          <a:stretch/>
        </p:blipFill>
        <p:spPr>
          <a:xfrm>
            <a:off x="3303720" y="2743200"/>
            <a:ext cx="3281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3632040" cy="456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92160" y="2209680"/>
            <a:ext cx="2388960" cy="4562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8"/>
          <p:cNvSpPr/>
          <p:nvPr/>
        </p:nvSpPr>
        <p:spPr>
          <a:xfrm>
            <a:off x="0" y="0"/>
            <a:ext cx="4648320" cy="2514600"/>
          </a:xfrm>
          <a:prstGeom prst="wedgeEllipseCallout">
            <a:avLst>
              <a:gd name="adj1" fmla="val -6796"/>
              <a:gd name="adj2" fmla="val 73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¡Qué guay! Me gusta mucho Barcel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4495680" y="0"/>
            <a:ext cx="4648320" cy="2514600"/>
          </a:xfrm>
          <a:prstGeom prst="wedgeEllipseCallout">
            <a:avLst>
              <a:gd name="adj1" fmla="val 819"/>
              <a:gd name="adj2" fmla="val 61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í es muy gu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0-barcelona_master"/>
          <p:cNvPicPr/>
          <p:nvPr/>
        </p:nvPicPr>
        <p:blipFill>
          <a:blip r:embed="rId3"/>
          <a:stretch/>
        </p:blipFill>
        <p:spPr>
          <a:xfrm>
            <a:off x="2557440" y="3048120"/>
            <a:ext cx="4181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7:44:41Z</dcterms:created>
  <dc:creator>Mac</dc:creator>
  <dc:description/>
  <dc:language>en-US</dc:language>
  <cp:lastModifiedBy>Dusit Princess Srinakarin</cp:lastModifiedBy>
  <dcterms:modified xsi:type="dcterms:W3CDTF">2012-09-22T16:44:40Z</dcterms:modified>
  <cp:revision>204</cp:revision>
  <dc:subject/>
  <dc:title>El 20 de septiembre, lunes</dc:title>
</cp:coreProperties>
</file>